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8FC2-D34C-4EC4-B2F5-04603FC7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DD16-024E-4871-BBB4-9EBC4D73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0D0-E923-4847-809C-6A0B8418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4ED2-4E1D-470C-B07D-A3D0FAD3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82A2-D94C-42BD-A64B-7D919C59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4D4-F782-4FB0-95D9-7624A061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BA5D-E24F-4373-8601-246C14F8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CA4-BAE5-42CC-B299-6E8F004E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9D1-9BF6-4BB3-BC0A-A10ED1AB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BB8E-B5EB-445C-A5FA-9748721A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BE5E-E9EF-4779-BAF2-69927DC4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24D2-D8EE-4A37-8C85-63647D5D4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9DC2-8E7E-4C2F-A9AD-37ECEEE9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043-7B4A-446C-B0EE-FEA46573B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616B-BB24-49C1-B8F1-ADDC5701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9E35-46CD-4FBA-BF98-F797766A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7F0D-560E-4EA7-89D8-4F616FDF2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D26F-5B67-45D2-B53F-889E3E28C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F051-0B60-426A-9206-9B1AD0CE8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EFE9-1261-4106-B410-70669E59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E789-E2E9-4B49-984F-02520C16F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CEAB-60C4-4066-A6BF-676C6285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5033-1F0F-4FB3-900E-B3930565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6B0B-1991-4A91-B869-6B7233EDE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0B2-B86A-46AD-81FA-2C5A3A9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956-1D81-4157-A18B-7F68FA7C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987-EB97-46A0-8014-B9D2476F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2C2-6491-4C23-9158-812B9657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E5E-CA39-41BE-AEA5-24ECF82D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B09-BF18-446C-A94C-61BBC2E7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FE9-90EC-4447-81C1-93B07C31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4C7-EF3A-4226-AE71-765DF8E8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678-888A-4952-BABD-010BC098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EB6-B460-498D-A64E-0383C34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8A0-58E6-4B31-97BF-384AAD7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0E3-B3DB-4E06-B4FA-4F14C72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F358-83FD-4F08-9A44-0BBE324D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3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0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5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0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5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0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5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0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oil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5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</cp:lastModifiedBy>
  <dcterms:modified xsi:type="dcterms:W3CDTF">2009-01-14T00:10:32Z</dcterms:modified>
  <cp:revision>6</cp:revision>
  <dc:subject/>
  <dc:title>Slide 1</dc:title>
</cp:coreProperties>
</file>